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747362"/>
        <c:axId val="3680519"/>
      </c:barChart>
      <c:catAx>
        <c:axId val="367473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0519"/>
        <c:crosses val="autoZero"/>
        <c:auto val="1"/>
        <c:lblAlgn val="ctr"/>
        <c:lblOffset val="100"/>
        <c:noMultiLvlLbl val="0"/>
      </c:catAx>
      <c:valAx>
        <c:axId val="36805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473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9002-13B0-4D45-9DA7-E251902C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9CAF-271E-4798-A31D-54BFDBAC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56D2-3C52-4411-ADF4-C5160DBE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2E1A-E721-43BC-B697-84B5FF91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C6EC-001A-49F5-8FA9-5D6031FC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31C-0BCA-43D1-BFC4-F914CEA7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9E35-709F-483D-8AB7-2DFC8E6C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AF0E-A2F4-4D73-94B7-6A61E427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61B1-85B2-48CF-B7BA-218A2ED5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3C68-7189-433E-8117-BB14C3E7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0A20-9848-473B-863A-BC2A7692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0B5E-DC05-4259-A0AE-16A78F86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A240D-265D-40EA-A3D2-7C943C4A05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