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8331486"/>
        <c:axId val="55937589"/>
      </c:barChart>
      <c:catAx>
        <c:axId val="2833148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937589"/>
        <c:crosses val="autoZero"/>
        <c:auto val="1"/>
        <c:lblAlgn val="ctr"/>
        <c:lblOffset val="100"/>
        <c:noMultiLvlLbl val="0"/>
      </c:catAx>
      <c:valAx>
        <c:axId val="5593758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33148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89B75-88BB-44AD-B3BE-02A933E21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79C05-D649-4875-980C-AE2C736F7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28ADA-F892-4041-AFC3-BC1135D1C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C967C-4176-4BAF-A9B2-5BFF737EB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8C772-7ED5-4E00-A7BE-DCFFAE198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96170-6D3A-4150-8A8D-E2B92F3F8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2416F-B5A0-4C3E-9D57-6345DE6CB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584E1-3CFE-4E30-B183-5E8B2F111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B18FF-3435-4E71-B154-477976A06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94123-6609-4003-85CC-9CA35FC7B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4D3F6-D3E7-40D9-B738-19CA03F09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D0EC5-DF03-4811-9593-446F34281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089F71-419D-4F38-9C5C-3A74204E046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