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87545"/>
        <c:axId val="90688733"/>
      </c:barChart>
      <c:catAx>
        <c:axId val="28787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88733"/>
        <c:crosses val="autoZero"/>
        <c:auto val="1"/>
        <c:lblAlgn val="ctr"/>
        <c:lblOffset val="100"/>
        <c:noMultiLvlLbl val="0"/>
      </c:catAx>
      <c:valAx>
        <c:axId val="90688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87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B60-8B16-4A6D-80B4-96051F48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B8B-C49D-4BF0-9DD4-571F0836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CD9-DA37-4691-B3AB-2DF83591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D37-C480-4571-8EB1-A403D6FB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AFF-78DA-4E2C-A59A-2EA75E0D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C7B-B326-4A3C-B881-FBCE3730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9AE-2CC6-4FA8-8EC8-B4B700D7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BF2-1FB3-4A7D-AC3D-8C4F9845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0E6-2FBF-4C95-A587-685B3861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A24-5C32-4B13-AA27-74CD9074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3F8-C88D-4CE8-8824-6387563E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E70-94D5-4135-8D24-3742C454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AE10E-D387-44B1-B9A3-1CC8624B86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