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25540"/>
        <c:axId val="69867905"/>
      </c:barChart>
      <c:catAx>
        <c:axId val="82925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67905"/>
        <c:crosses val="autoZero"/>
        <c:auto val="1"/>
        <c:lblAlgn val="ctr"/>
        <c:lblOffset val="100"/>
        <c:noMultiLvlLbl val="0"/>
      </c:catAx>
      <c:valAx>
        <c:axId val="69867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25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235-BBA3-4367-9EBB-72FBEACA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37A-CAE2-45C1-A233-FB8F71AB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34B-1138-41AC-BF6F-7516D700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345-DDEF-41BC-B2CA-FEC3D421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AEE-2453-49D1-9ADA-C2F116EC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F7E-9685-4A68-B6DC-D1DDF6FD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296-48F4-4376-829A-6B03BC1B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FDE-9901-4F1F-8FF1-B2EE564B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3F3-7AD8-48B7-A499-F1A71D41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DEB-6F75-4608-9F89-7EF71243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1A4-C370-4999-95C7-1203ECA7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2C1-BB94-492D-9232-4412C5D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30F23-5184-4D4A-BC5E-2D45CE11ED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