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938056"/>
        <c:axId val="40821096"/>
      </c:barChart>
      <c:catAx>
        <c:axId val="60938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21096"/>
        <c:crosses val="autoZero"/>
        <c:auto val="1"/>
        <c:lblAlgn val="ctr"/>
        <c:lblOffset val="100"/>
        <c:noMultiLvlLbl val="0"/>
      </c:catAx>
      <c:valAx>
        <c:axId val="408210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38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FB09-8658-4F48-9E1E-206D45DA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8DAE-EE35-4A66-881D-0C066B20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72E-9647-469E-90EC-E0E02211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B8D6-69AD-46C7-B61B-006229DC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BB18-CB70-4A1D-932B-1F50090D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58D7-E5F6-45BE-8EEE-F8FBD154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3C3E-686C-412D-B393-B77D8804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A1E3-AA18-4FA0-AC70-388C132D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BB0A-AF14-4F07-81B1-F8F18B49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C73D-8ED5-40E6-9C99-FC3BC2CC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9821-35C3-41C9-8723-79D29A84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8AF2-C44E-4577-9FC8-482AC22F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39FF5-5C09-43FA-B3DC-CFE981E6AD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