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06820"/>
        <c:axId val="87241788"/>
      </c:barChart>
      <c:catAx>
        <c:axId val="75406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41788"/>
        <c:crosses val="autoZero"/>
        <c:auto val="1"/>
        <c:lblAlgn val="ctr"/>
        <c:lblOffset val="100"/>
        <c:noMultiLvlLbl val="0"/>
      </c:catAx>
      <c:valAx>
        <c:axId val="87241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06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82F-974E-4500-9827-1779A55C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080-C064-4C7A-A33E-D3C50254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E10-0BF3-4453-8C99-EE21678F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79C-4ED7-464A-9932-36A12BDA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8DE-610A-4848-BD8E-477F0E87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7E6-F56B-4434-967A-E1C55056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812-DBF1-47B5-A7B4-6B444C08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9D9-A8DA-4B4D-913A-30655F49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320-32A9-4277-98C3-8CCD2319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920-C32B-4AC3-A326-E12CADDB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B8E-9B64-4E27-A9B4-7E2D448C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4B7-13BC-4C35-91E5-8917DB29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A0B5A-2F8D-4683-81F3-B2DA885E0B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