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36869"/>
        <c:axId val="26271483"/>
      </c:barChart>
      <c:catAx>
        <c:axId val="31136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71483"/>
        <c:crosses val="autoZero"/>
        <c:auto val="1"/>
        <c:lblAlgn val="ctr"/>
        <c:lblOffset val="100"/>
        <c:noMultiLvlLbl val="0"/>
      </c:catAx>
      <c:valAx>
        <c:axId val="26271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36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E10-FD5E-4787-B028-B29F934D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359-A0AD-4FD3-8EB3-93C12651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B59-8C3D-4D6E-B55A-F98B2724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B19-73EA-4854-A22B-C9C3D680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55E-65D0-49CE-8189-EB71B079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C60A-175D-4D10-8965-36E9B59C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4E6-2760-40F8-AC7E-D72F03DB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0C4-787A-44D7-B7F5-05BA2673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FD3-227B-4D6C-9FDE-92507B6D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DB7-73C5-4D84-ABBF-A207EE7C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75F-7074-418C-856E-346AB842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3C0B-A0EB-4CDB-ACBB-596FB8BD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A7A92-A054-4FBF-9AAA-7E5A6A15AF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