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63941"/>
        <c:axId val="75600991"/>
      </c:barChart>
      <c:catAx>
        <c:axId val="72563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00991"/>
        <c:crosses val="autoZero"/>
        <c:auto val="1"/>
        <c:lblAlgn val="ctr"/>
        <c:lblOffset val="100"/>
        <c:noMultiLvlLbl val="0"/>
      </c:catAx>
      <c:valAx>
        <c:axId val="75600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3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6BC-EA58-45F3-8712-7B7B8C75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BAF-29F0-4C55-AB6B-5B8F382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E7B-D568-4F04-AF41-DB513AE2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E13-37C5-49D0-BB2B-CDE98356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913-A928-4EF9-B881-2994346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C7E-1B25-4C67-9295-712A8E8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2AE-0BC2-4B54-9CEC-5B0AA5C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937-0FC7-4233-BEB5-A2F84A93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281-5625-4CAB-AFB3-7FFC202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98F-99AF-4649-B50B-F7778B8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004-8777-48BD-9188-DC3AC96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484-83DB-4A7D-9BBD-836660F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124D1-4DDF-442F-BC87-9BD25DAD8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