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58207"/>
        <c:axId val="98615371"/>
      </c:barChart>
      <c:catAx>
        <c:axId val="93658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5371"/>
        <c:crosses val="autoZero"/>
        <c:auto val="1"/>
        <c:lblAlgn val="ctr"/>
        <c:lblOffset val="100"/>
        <c:noMultiLvlLbl val="0"/>
      </c:catAx>
      <c:valAx>
        <c:axId val="98615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8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80E-62F5-4125-B569-65257558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876-8CF2-4AC5-A956-13B853A5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828-C468-47F8-B0FC-7F26B540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F4B-F44D-4E9A-BB54-73FD0E57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BB7-F4E3-430F-B2AD-104670A9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947-7017-41A2-A11A-754A127C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D4-273D-4A01-B499-43125FC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3CB-37C4-4D0F-92B1-161B9D47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71E-C415-4A9C-A04E-2CA80FE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C07-A81F-40FD-8528-36123EB7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8AF-E734-4E5C-940E-55C575B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C88-AEA9-4AD2-8269-DC784934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4F29D-F51A-40BD-8878-9CDA094D0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